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8516-208C-473B-8A45-C4E205494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Welcome, thanky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Kiaora kout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anks for talking the time to meet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o I am -Rochelle Jensen – elnr advi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vent came about through Janet Bourne - thanks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today is about in a nutshell is a a group of people who share a passion for ICT and GATE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ave come together to share and develop their understanding.  Characterised by casual, sharing, questioning 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Big thanks to Woody, Toni Twiss ,  Sharon Harper passionate educators who came out of the wings and mad themselves available to support us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oody and Peachgrove  - Venu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Introductions from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Anyone like to say a karak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oliets, rough outline of day, food, wireless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1C4-13F7-40A2-A2A6-9642BFE5B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3066-DA1D-4BAC-B18A-0ADC99069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exible  models of skilled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ffer flexible opportunities to demonstrate 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B5E-4575-43EF-92D1-7A517ADBA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90F6-32B0-4B4E-9427-353F8753B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F9E2-24FF-4101-BFC1-567DABF24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My work falls out of this document- broad action plan for schoo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ts the scene in terms of where e-learning fits, potential of e-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97B-0571-4ACA-84F4-92258D2EA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E13D-3E94-4255-9FAA-8772BDA7C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C9B3-C773-4033-8577-EE76902A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expertise in room, input to share what we are doing , others feed in, afternoon will focus on popular ideas and the 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ramework to hang these ideas on , I focused 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fferentiation may include adaptations t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ffect – social, emotional , well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ontent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ki.org.nz/r/gifted/handbook/stage2/prog_qual_e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alitative di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se principles, it becomes clear that differentiation for gifted and talented students must consist of qualitative, rather than quantitative changes. These adjustments to their education should incorporate well-thought-out, meaningful learning experiences that capitalise on students' strengths and inte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reas of different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in qualitative differentiation for gifted and talented students, three primary areas of differentiation emer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n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at is taught or learned – the concepts, information, ideas, and facts within the curricul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w the content is taught or learned – how new material is presented, what activities students are involved in, and what teaching methods ar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w learning is evidenced by gifted and talented students – tangible or intangible results of learning, 'real' solutions to 'real'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natural result of differentiating each of these elements, the learning environment is also transformed. This transformation of the learning environment is determined by both the teacher and physical classroom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716-6E6B-4B24-BC1D-0BB76AADA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222-F4A2-4E3A-A070-805BE8A07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B74-04BC-40F0-8FF8-564ECBD2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CT Enhanc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Multiple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ighlight critical features provide multiple media and form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vide opportunities to work with peers of like mind who have similar interests and abilities - V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E93-91FA-4154-B2D1-C5AA2B831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A3D-68AD-48DC-960D-9C615CFF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487-5EF4-4705-B3C3-B768932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BD6-7FEC-4D99-A20E-866C42C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DE3-C6AC-45AF-BABF-562D8D9C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143-5A94-42C3-BA5B-DBE2FF17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67D-3FB2-4EE0-B32C-C2BE9613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EAD-B2C1-47E0-8331-F5E9F8D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F74-0A78-478B-979E-61F5229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B59-407B-494A-95EB-421C9E0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6FF-2FA5-40E2-90CC-79A8104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45A-5B67-45C0-B2DF-CD61299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691-F453-4992-95BB-7BAA65D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3284-280C-4D95-AA10-A73E84FB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eativethinkingulearn.wikispaces.com/Software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youtube.com/watch?v=S_uFHlrVCOM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23.jpeg"/><Relationship Id="rId13" Type="http://schemas.openxmlformats.org/officeDocument/2006/relationships/hyperlink" Target="http://www.wix.com/" TargetMode="External"/><Relationship Id="rId14" Type="http://schemas.openxmlformats.org/officeDocument/2006/relationships/image" Target="../media/image24.png"/><Relationship Id="rId15" Type="http://schemas.openxmlformats.org/officeDocument/2006/relationships/hyperlink" Target="http://www.glogster.com/" TargetMode="External"/><Relationship Id="rId16" Type="http://schemas.openxmlformats.org/officeDocument/2006/relationships/image" Target="../media/image25.png"/><Relationship Id="rId17" Type="http://schemas.openxmlformats.org/officeDocument/2006/relationships/hyperlink" Target="http://www.wikihow.com/Category:Youth" TargetMode="External"/><Relationship Id="rId18" Type="http://schemas.openxmlformats.org/officeDocument/2006/relationships/image" Target="../media/image26.png"/><Relationship Id="rId19" Type="http://schemas.openxmlformats.org/officeDocument/2006/relationships/hyperlink" Target="http://dictionary.k12opened.com/" TargetMode="External"/><Relationship Id="rId20" Type="http://schemas.openxmlformats.org/officeDocument/2006/relationships/image" Target="../media/image27.png"/><Relationship Id="rId21" Type="http://schemas.openxmlformats.org/officeDocument/2006/relationships/hyperlink" Target="http://jesseportfolio.wikispaces.com/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tvnznetguidewebchallenge.co.nz/R18ops/" TargetMode="External"/><Relationship Id="rId24" Type="http://schemas.openxmlformats.org/officeDocument/2006/relationships/image" Target="../media/image28.png"/><Relationship Id="rId25" Type="http://schemas.openxmlformats.org/officeDocument/2006/relationships/image" Target="../media/image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9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miltongate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eezeserver.co.nz/p47101114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hyperlink" Target="http://rjensen.wordpress.com/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hyperlink" Target="http://rjensen.wordpress.com/" TargetMode="External"/><Relationship Id="rId13" Type="http://schemas.openxmlformats.org/officeDocument/2006/relationships/hyperlink" Target="http://www.google.com/" TargetMode="External"/><Relationship Id="rId14" Type="http://schemas.openxmlformats.org/officeDocument/2006/relationships/hyperlink" Target="http://issuesinourcommunity.wikispaces.com/Inquiry+Model" TargetMode="External"/><Relationship Id="rId15" Type="http://schemas.openxmlformats.org/officeDocument/2006/relationships/hyperlink" Target="http://vodpod.com/watch/97520-teenage-influenza" TargetMode="External"/><Relationship Id="rId16" Type="http://schemas.openxmlformats.org/officeDocument/2006/relationships/hyperlink" Target="http://voicethread4education.wikispaces.com/3-5" TargetMode="External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ovies.atomiclearning.com/k12/hom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kype.com/intl/en/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adrianbruce.com/teacher-toolbox/quest-atlantis-training/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hyperlink" Target="http://www.tki.org.nz/r/digistore/" TargetMode="External"/><Relationship Id="rId16" Type="http://schemas.openxmlformats.org/officeDocument/2006/relationships/image" Target="../media/image13.png"/><Relationship Id="rId17" Type="http://schemas.openxmlformats.org/officeDocument/2006/relationships/hyperlink" Target="http://webquest.org/search/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www.samorost.net/samorost1/intro.swf" TargetMode="External"/><Relationship Id="rId20" Type="http://schemas.openxmlformats.org/officeDocument/2006/relationships/image" Target="../media/image15.png"/><Relationship Id="rId21" Type="http://schemas.openxmlformats.org/officeDocument/2006/relationships/hyperlink" Target="http://nobelprize.org/educational_games/medicine/landsteiner/index.html" TargetMode="External"/><Relationship Id="rId22" Type="http://schemas.openxmlformats.org/officeDocument/2006/relationships/image" Target="../media/image16.png"/><Relationship Id="rId23" Type="http://schemas.openxmlformats.org/officeDocument/2006/relationships/hyperlink" Target="http://annesmith9h.blogspot.com/2006/09/act-2-questions-continued.html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www.worldvision.org.nz/resources/education_games.asp" TargetMode="External"/><Relationship Id="rId26" Type="http://schemas.openxmlformats.org/officeDocument/2006/relationships/image" Target="../media/image18.png"/><Relationship Id="rId27" Type="http://schemas.openxmlformats.org/officeDocument/2006/relationships/hyperlink" Target="http://jesseportfolio.wikispaces.com/" TargetMode="External"/><Relationship Id="rId28" Type="http://schemas.openxmlformats.org/officeDocument/2006/relationships/image" Target="../media/image2.png"/><Relationship Id="rId29" Type="http://schemas.openxmlformats.org/officeDocument/2006/relationships/image" Target="../media/image8.png"/><Relationship Id="rId30" Type="http://schemas.openxmlformats.org/officeDocument/2006/relationships/hyperlink" Target="http://www.fekids.com/kln/games/whomp/" TargetMode="External"/><Relationship Id="rId31" Type="http://schemas.openxmlformats.org/officeDocument/2006/relationships/image" Target="../media/image19.png"/><Relationship Id="rId32" Type="http://schemas.openxmlformats.org/officeDocument/2006/relationships/hyperlink" Target="http://tutpup.com/" TargetMode="External"/><Relationship Id="rId33" Type="http://schemas.openxmlformats.org/officeDocument/2006/relationships/image" Target="../media/image20.png"/><Relationship Id="rId34" Type="http://schemas.openxmlformats.org/officeDocument/2006/relationships/hyperlink" Target="http://www.teachandlearn.ca/blog/2008/02/04/towards-reflective-blogtalk/" TargetMode="External"/><Relationship Id="rId35" Type="http://schemas.openxmlformats.org/officeDocument/2006/relationships/image" Target="../media/image17.jpeg"/><Relationship Id="rId36" Type="http://schemas.openxmlformats.org/officeDocument/2006/relationships/hyperlink" Target="http://room9reflects.blogspot.com/" TargetMode="External"/><Relationship Id="rId37" Type="http://schemas.openxmlformats.org/officeDocument/2006/relationships/image" Target="../media/image17.jpeg"/><Relationship Id="rId38" Type="http://schemas.openxmlformats.org/officeDocument/2006/relationships/hyperlink" Target="http://hauora.pbwiki.com/" TargetMode="External"/><Relationship Id="rId39" Type="http://schemas.openxmlformats.org/officeDocument/2006/relationships/image" Target="../media/image14.jpeg"/><Relationship Id="rId40" Type="http://schemas.openxmlformats.org/officeDocument/2006/relationships/hyperlink" Target="http://voicethread4education.wikispaces.com/3-5" TargetMode="External"/><Relationship Id="rId41" Type="http://schemas.openxmlformats.org/officeDocument/2006/relationships/image" Target="../media/image9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35744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NZ" sz="4000" spc="-1" strike="noStrike">
                <a:solidFill>
                  <a:srgbClr val="ff0000"/>
                </a:solidFill>
                <a:latin typeface="AvantGarde Bk BT"/>
              </a:rPr>
              <a:t>E -Learning and GATE Meet</a:t>
            </a:r>
            <a:br>
              <a:rPr sz="4000"/>
            </a:b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6</a:t>
            </a:r>
            <a:r>
              <a:rPr b="0" lang="en-NZ" sz="3200" spc="-1" strike="noStrike" baseline="30000">
                <a:solidFill>
                  <a:srgbClr val="0d0d0d"/>
                </a:solidFill>
                <a:latin typeface="AvantGarde Bk BT"/>
              </a:rPr>
              <a:t>th</a:t>
            </a: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 November</a:t>
            </a:r>
            <a:br>
              <a:rPr sz="3200"/>
            </a:b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9-3pm</a:t>
            </a:r>
            <a:br>
              <a:rPr sz="3200"/>
            </a:br>
            <a:br>
              <a:rPr sz="32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Rochelle Jensen</a:t>
            </a:r>
            <a:br>
              <a:rPr sz="18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e-learning advisor</a:t>
            </a:r>
            <a:br>
              <a:rPr sz="18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University of Waikato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gate.jpg"/>
          <p:cNvPicPr/>
          <p:nvPr/>
        </p:nvPicPr>
        <p:blipFill>
          <a:blip r:embed="rId1"/>
          <a:stretch/>
        </p:blipFill>
        <p:spPr>
          <a:xfrm>
            <a:off x="1487520" y="26820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7128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7f7f7f"/>
                </a:solidFill>
                <a:latin typeface="Calibri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How learning is evidenced by gifted and talented students – tangible or intangible,  the  results of learn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0" y="173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GATE students </a:t>
            </a: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demonstrate their  learning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 does/could e-learning enhance how </a:t>
            </a: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learning is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000160"/>
            <a:ext cx="1228680" cy="6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photosto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1000080"/>
            <a:ext cx="692280" cy="642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071720" y="214200"/>
            <a:ext cx="385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Product - Research Recomm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hoice of style of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reative /original products or perform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ynthesis of information in a new form rather than reproduc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mmunication to an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articipation in a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olutions to real issues o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eing of service to oth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Alternate Process 6"/>
          <p:cNvSpPr/>
          <p:nvPr/>
        </p:nvSpPr>
        <p:spPr>
          <a:xfrm>
            <a:off x="714240" y="142920"/>
            <a:ext cx="4357800" cy="350028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wiki.jpg"/>
          <p:cNvPicPr/>
          <p:nvPr/>
        </p:nvPicPr>
        <p:blipFill>
          <a:blip r:embed="rId12"/>
          <a:stretch/>
        </p:blipFill>
        <p:spPr>
          <a:xfrm rot="20792400">
            <a:off x="7292880" y="2792160"/>
            <a:ext cx="750960" cy="75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05520" y="28584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72120" y="285840"/>
            <a:ext cx="96192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00880" y="2643120"/>
            <a:ext cx="11332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>
            <a:hlinkClick r:id="rId19"/>
          </p:cNvPr>
          <p:cNvPicPr/>
          <p:nvPr/>
        </p:nvPicPr>
        <p:blipFill>
          <a:blip r:embed="rId20"/>
          <a:stretch/>
        </p:blipFill>
        <p:spPr>
          <a:xfrm rot="770400">
            <a:off x="5986080" y="3000240"/>
            <a:ext cx="13622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000840" y="4071960"/>
            <a:ext cx="1247760" cy="35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215120" y="3786120"/>
            <a:ext cx="928800" cy="946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25"/>
          <a:stretch/>
        </p:blipFill>
        <p:spPr>
          <a:xfrm>
            <a:off x="5857920" y="4938840"/>
            <a:ext cx="2552760" cy="19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26"/>
          <a:stretch/>
        </p:blipFill>
        <p:spPr>
          <a:xfrm>
            <a:off x="7286760" y="1285920"/>
            <a:ext cx="733320" cy="54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27"/>
          <a:stretch/>
        </p:blipFill>
        <p:spPr>
          <a:xfrm>
            <a:off x="6572160" y="4786200"/>
            <a:ext cx="64296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28"/>
          <a:stretch/>
        </p:blipFill>
        <p:spPr>
          <a:xfrm>
            <a:off x="5786280" y="2000160"/>
            <a:ext cx="85752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9"/>
          <a:stretch/>
        </p:blipFill>
        <p:spPr>
          <a:xfrm>
            <a:off x="6357960" y="1714680"/>
            <a:ext cx="1114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f7f7f"/>
                </a:solidFill>
                <a:latin typeface="Calibri"/>
              </a:rPr>
              <a:t>outstanding e-learning coll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cklands Beach Intermedi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bi.school.nz/student/studentwork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ie Vesper – CORE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ducationalsoftware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42960" y="2357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amiltongate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2895480"/>
            <a:ext cx="18892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324400">
            <a:off x="847800" y="958680"/>
            <a:ext cx="2514600" cy="1995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714680" y="35002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effective tea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family, whanau and community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evidence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Infrastructure + Ad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857760" y="1857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62626"/>
                </a:solidFill>
                <a:latin typeface="Arial"/>
              </a:rPr>
              <a:t>Enabling the 21</a:t>
            </a:r>
            <a:r>
              <a:rPr b="0" lang="en-NZ" sz="2000" spc="-1" strike="noStrike" baseline="30000">
                <a:solidFill>
                  <a:srgbClr val="262626"/>
                </a:solidFill>
                <a:latin typeface="Arial"/>
              </a:rPr>
              <a:t>st</a:t>
            </a:r>
            <a:r>
              <a:rPr b="0" lang="en-NZ" sz="2000" spc="-1" strike="noStrike">
                <a:solidFill>
                  <a:srgbClr val="262626"/>
                </a:solidFill>
                <a:latin typeface="Arial"/>
              </a:rPr>
              <a:t> Century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62626"/>
                </a:solidFill>
                <a:latin typeface="Arial"/>
              </a:rPr>
              <a:t>An e-Learning Action Plan for Schools 2006-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9001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NZ" sz="4000" spc="-1" strike="noStrike">
                <a:solidFill>
                  <a:srgbClr val="7f7f7f"/>
                </a:solidFill>
                <a:latin typeface="Calibri"/>
              </a:rPr>
              <a:t>to develop our ability to use e-learning to nurture gifted and talented childr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292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alibri"/>
              </a:rPr>
              <a:t>Overall ai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7120" y="428400"/>
            <a:ext cx="8501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Differentiation involves providing learning experiences to suit the needs of each individual student within an environment that accepts diversity 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In practice, differentiation a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Content – what is taught and learnt- ideas, concepts, skills,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Processes – the way in which content is presented and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Products of Learning  -  what is produced to demonstrat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Environment – physical structure of setting, its organisation, and its social and emotional cl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786040" y="6488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ource: Nurturing Gifted and Talented Children, MOE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71720" y="-7164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NZ" sz="4000" spc="-1" strike="noStrike">
                <a:solidFill>
                  <a:srgbClr val="7f7f7f"/>
                </a:solidFill>
                <a:latin typeface="Calibri"/>
              </a:rPr>
              <a:t>Cont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571920" y="8571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What is taught or learned – the concepts, information, ideas and facts within the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2920" y="242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we /can we make choices about </a:t>
            </a:r>
            <a:r>
              <a:rPr b="1" lang="en-NZ" sz="20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for GAT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does/could e-learning enhance choices about </a:t>
            </a:r>
            <a:r>
              <a:rPr b="1" lang="en-NZ" sz="28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2500200" y="-7128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Content: Research Recomm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i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nnections betwee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Re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ross –disciplinary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reas of Interest and Pa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pportunities to exercis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Exposure to moral/ethic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Alternate Process 9"/>
          <p:cNvSpPr/>
          <p:nvPr/>
        </p:nvSpPr>
        <p:spPr>
          <a:xfrm>
            <a:off x="2428920" y="130320"/>
            <a:ext cx="4000320" cy="350028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kidsglobe_posteris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43800" y="1785960"/>
            <a:ext cx="237780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11"/>
          <a:stretch/>
        </p:blipFill>
        <p:spPr>
          <a:xfrm>
            <a:off x="357120" y="4586400"/>
            <a:ext cx="2357640" cy="1771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3643200"/>
            <a:ext cx="735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Collaborativ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Easy access to information and ideas that relates to passions and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nquiry process and the tools that allow us to collaborate to create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Current events and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Explore concepts through vid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2214720"/>
            <a:ext cx="857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143840" y="0"/>
            <a:ext cx="19288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7f7f7f"/>
                </a:solidFill>
                <a:latin typeface="Calibri"/>
              </a:rPr>
              <a:t>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786120" y="71424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How the content is taught or learned- how new material is presented , what activities students are involved in, and what teaching methods are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71680" y="21430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we /can we differentiate the learning </a:t>
            </a:r>
            <a:r>
              <a:rPr b="1" lang="en-NZ" sz="2000" spc="-1" strike="noStrike">
                <a:solidFill>
                  <a:srgbClr val="ff0000"/>
                </a:solidFill>
                <a:latin typeface="Calibri"/>
              </a:rPr>
              <a:t>process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for GAT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could e-learning enhance the </a:t>
            </a: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process </a:t>
            </a: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of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imag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28584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skype.jpg">
            <a:hlinkClick r:id="rId3"/>
          </p:cNvPr>
          <p:cNvPicPr/>
          <p:nvPr/>
        </p:nvPicPr>
        <p:blipFill>
          <a:blip r:embed="rId4"/>
          <a:stretch/>
        </p:blipFill>
        <p:spPr>
          <a:xfrm rot="895800">
            <a:off x="60120" y="144000"/>
            <a:ext cx="1199880" cy="6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1347840"/>
            <a:ext cx="123804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5072040" y="285840"/>
            <a:ext cx="350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Process - Research Recomm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pen-ended-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eta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Higher Level Think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Group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acing and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Less practice of the 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Alternate Process 6"/>
          <p:cNvSpPr/>
          <p:nvPr/>
        </p:nvSpPr>
        <p:spPr>
          <a:xfrm>
            <a:off x="4714920" y="142920"/>
            <a:ext cx="4000320" cy="314316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part-adder-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2960" y="3714840"/>
            <a:ext cx="133344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quests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14200" y="1776240"/>
            <a:ext cx="1086120" cy="72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0040" y="4643280"/>
            <a:ext cx="12286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blood-intro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928800" y="4143240"/>
            <a:ext cx="13856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blogit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57120" y="2786040"/>
            <a:ext cx="500040" cy="54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2920" y="113364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285920" y="2928960"/>
            <a:ext cx="1071360" cy="43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9"/>
          <a:stretch/>
        </p:blipFill>
        <p:spPr>
          <a:xfrm>
            <a:off x="285840" y="5246640"/>
            <a:ext cx="2143080" cy="161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1785960" y="5000760"/>
            <a:ext cx="642960" cy="49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1671480" y="5500800"/>
            <a:ext cx="97164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blogit.jp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857160" y="2643120"/>
            <a:ext cx="490680" cy="5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blogit.jpg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785880" y="3214800"/>
            <a:ext cx="490320" cy="536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quests.jpg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857160" y="1919160"/>
            <a:ext cx="1086120" cy="72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1785960" y="90360"/>
            <a:ext cx="857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0:41:47Z</dcterms:created>
  <dc:creator>rjensen</dc:creator>
  <dc:description/>
  <dc:language>en-US</dc:language>
  <cp:lastModifiedBy>rjensen</cp:lastModifiedBy>
  <dcterms:modified xsi:type="dcterms:W3CDTF">2008-11-05T09:51:18Z</dcterms:modified>
  <cp:revision>25</cp:revision>
  <dc:subject/>
  <dc:title>GATE Meet outline etc intros</dc:title>
</cp:coreProperties>
</file>